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807-F3F7-4B89-9881-D495E42E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6EF-05F5-47CA-B1CA-098A8AC5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D49-CC88-4501-9FFF-09D7009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82E-04EC-4FAF-8F69-ADD1C06F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C799-5EBA-4B57-A452-A6AD063F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AF95-2F89-42FB-9F68-CFFB3CC3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F16-FE3B-48F5-BB68-F14A84D9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C06-7C86-4C98-A06E-D290EBA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626-40EB-4BDD-9BE8-E9012D6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996F-F34F-40B3-BEA8-FE17E67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515-B626-4C0F-BC47-0D62F383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0FC-26CA-4811-8F29-E1A2EA4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CF7-447D-4456-800B-BD9B57C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906-996E-4EC6-A219-396C82C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078-5586-4D19-9DDE-E6009E9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857-7E4D-41DB-9DDE-40FB4C91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416-95C3-4DE9-998A-D0B899BD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84F-4E7F-43B2-9711-CCD6F8C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5CC-1B79-4B43-A256-7B999E4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D7A-C3FA-4534-AA95-711BFD37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F8C-B65E-4753-A3A2-D44CAAB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DDC-346F-48D6-B48E-0042E15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5B8-CDB7-477B-9B77-DEFE583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50B-A986-43FB-8E83-67FF53DA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347-07E3-4B3D-AC67-13E64A8378B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C529-541F-4736-9578-26DC687EC67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6920" y="620640"/>
            <a:ext cx="50421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нзол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его свойств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43736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олуче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712944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ензол получают из каменноугольной смолы, образующейся при коксовании угл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В настоящее время  бензол получают из нефт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ензол получают  синтетическими методам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95272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315720"/>
            <a:ext cx="7608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Другие способы получен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576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14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 + 4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1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 + 3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3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4400" spc="-1" strike="noStrike" baseline="-25000">
                <a:solidFill>
                  <a:srgbClr val="f8f8f8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237960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315720"/>
            <a:ext cx="7537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риродные источники получения</a:t>
            </a: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: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риродные и попутные газы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Нефть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Каменный уголь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Примене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История открытия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14680" cy="374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первые бензол описал немецкий химик Иоганн Глаубер, который получил это соединение в 1649 году в результате перегонки каменно-угольной смолы. Но ни названия вещество не получило, ни состав его не был известен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 Black"/>
              </a:rPr>
              <a:t>Второе рождение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5553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Своё второе рождение бензол получил благодаря работам Фарадея. Бензол был открыт в 1825 году английским физиком Майклом Фарадеем, который выделил его из жидкого конденсата светильного газа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771640" cy="26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Новое  получение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4640" y="1794960"/>
            <a:ext cx="5192640" cy="46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 1833 году немецкий физико-химик Эйльгард Мичерлих получил бензол при сухой перегонке кальциевой соли бензойной кислоты (именно от этого и произошло название бензол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78400" y="2924280"/>
            <a:ext cx="2865600" cy="3671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Black"/>
              </a:rPr>
              <a:t>Строение  бензола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" name="" descr="Формулы бензола"/>
          <p:cNvPicPr/>
          <p:nvPr/>
        </p:nvPicPr>
        <p:blipFill>
          <a:blip r:embed="rId1"/>
          <a:stretch/>
        </p:blipFill>
        <p:spPr>
          <a:xfrm>
            <a:off x="3564000" y="1380960"/>
            <a:ext cx="5580000" cy="5116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12720" y="2421000"/>
            <a:ext cx="299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В свое  время был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предложено мног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вариантов структур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формул бензола, но н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дна из них не смогл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удовлетворительн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бъяснить его особы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свойств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Цикличность  строени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бензола  подтверждаетс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тем  фактом, что его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однозамещенны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производные не   имеют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изомеров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Black"/>
              </a:rPr>
              <a:t>Схема перекрывания облаков в молекул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0" name="" descr="Облако пи-электронов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Квантовомеханическая теория и молекула бензо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7953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Немецкий химик  Э. Хюккель применил к ароматическим соединениям квантовомеханическую теорию и показал, что шесть </a:t>
            </a:r>
            <a:r>
              <a:rPr b="0" lang="el-GR" sz="2800" spc="-1" strike="noStrike">
                <a:solidFill>
                  <a:srgbClr val="f8f8f8"/>
                </a:solidFill>
                <a:latin typeface="Arial"/>
                <a:ea typeface="Arial"/>
              </a:rPr>
              <a:t>π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-электронов молекулы бензола располагаются в плоскости, перпендикулярной плоскости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молекулы, взаимно перекрываются и образуют замкнутое электронное облако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Физические свойства</a:t>
            </a: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Бензол представляет собой бесцветную, легкоподвижную жидкость с температурой кипения +80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С и температурой плавления + 5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Он обладает своеобразным запахом, горит сильно коптящим пламенем, легче  воды и не растворяется в ней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Пары бензола с воздухом образуют взрывчатую смесь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Black"/>
              </a:rPr>
              <a:t>Химические свойств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4640" y="1341360"/>
            <a:ext cx="78264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Горение бензола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С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+ 15О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= 12СО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+ 6Н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 Реакция замещения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C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  + HB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 Нит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НО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 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Гидри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3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 Хлорировани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+ 3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 C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068640"/>
            <a:ext cx="432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4076640"/>
            <a:ext cx="64944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5084640"/>
            <a:ext cx="4330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021360"/>
            <a:ext cx="43164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34:32Z</dcterms:created>
  <dc:creator>Слюсарь А.П.</dc:creator>
  <dc:description/>
  <dc:language>en-US</dc:language>
  <cp:lastModifiedBy>Учитель</cp:lastModifiedBy>
  <dcterms:modified xsi:type="dcterms:W3CDTF">2010-02-05T06:09:02Z</dcterms:modified>
  <cp:revision>6</cp:revision>
  <dc:subject>Углеводороды</dc:subject>
  <dc:title>Бензол и его совйства</dc:title>
</cp:coreProperties>
</file>