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gif" ContentType="image/gif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6EB-D2BF-4D2A-875A-68988E65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C76-C832-4FB1-8D63-7A27AF5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FB7-9CA1-42E5-996E-7BCE93F7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7BD-A193-4B92-99D1-450433CC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643-AE9C-4E98-BAC3-9F72FE08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ABA-4F5D-48F2-8E5B-B1C0707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C84-8BCB-41F7-91CF-2C26AAD6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1E3-6ADE-4B67-81F6-20D1F5A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EF1-5C4B-4672-88C9-6C791D38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877-CC53-4C7B-A729-0D1330A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21A-5DBE-4BFC-A7F2-4B0F090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D95-9313-4281-BC6B-F100099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212DD-5D91-4550-87B6-2BADF4A2C64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«Не в количестве знаний заключается образование,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а в полном понимании и искусном применении всего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того, что знаешь».</a:t>
            </a:r>
            <a:br>
              <a:rPr sz="36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.Дистерве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333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0464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полно свойства бенз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л 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идрих Август К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е предложил цикличе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у бензола в 186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871720" cy="3828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4365720"/>
            <a:ext cx="28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дрих Август Кекуле(1829-18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5130720"/>
            <a:ext cx="147168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24360" y="3141720"/>
            <a:ext cx="2539800" cy="3327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53006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ровод обезьянок, взявшихся з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молекулы бенз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81000" y="2492280"/>
            <a:ext cx="1557360" cy="1800360"/>
            <a:chOff x="981000" y="2492280"/>
            <a:chExt cx="1557360" cy="1800360"/>
          </a:xfrm>
        </p:grpSpPr>
        <p:sp>
          <p:nvSpPr>
            <p:cNvPr id="72" name=""/>
            <p:cNvSpPr/>
            <p:nvPr/>
          </p:nvSpPr>
          <p:spPr>
            <a:xfrm rot="5400000">
              <a:off x="859320" y="2613600"/>
              <a:ext cx="1800360" cy="1557360"/>
            </a:xfrm>
            <a:prstGeom prst="hexagon">
              <a:avLst>
                <a:gd name="adj" fmla="val 28901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089000" y="2630160"/>
              <a:ext cx="649440" cy="36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9000" y="3787920"/>
              <a:ext cx="6494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4520" y="2995560"/>
              <a:ext cx="180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74600" y="3141720"/>
            <a:ext cx="1233720" cy="217440"/>
            <a:chOff x="3774600" y="3141720"/>
            <a:chExt cx="1233720" cy="217440"/>
          </a:xfrm>
        </p:grpSpPr>
        <p:sp>
          <p:nvSpPr>
            <p:cNvPr id="77" name=""/>
            <p:cNvSpPr/>
            <p:nvPr/>
          </p:nvSpPr>
          <p:spPr>
            <a:xfrm>
              <a:off x="3780000" y="3141720"/>
              <a:ext cx="1223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74600" y="3357720"/>
              <a:ext cx="1233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4440" y="2492280"/>
            <a:ext cx="1557360" cy="1800360"/>
            <a:chOff x="6094440" y="2492280"/>
            <a:chExt cx="1557360" cy="1800360"/>
          </a:xfrm>
        </p:grpSpPr>
        <p:sp>
          <p:nvSpPr>
            <p:cNvPr id="80" name=""/>
            <p:cNvSpPr/>
            <p:nvPr/>
          </p:nvSpPr>
          <p:spPr>
            <a:xfrm flipH="1" rot="16200000">
              <a:off x="5972760" y="2613600"/>
              <a:ext cx="1800360" cy="1557360"/>
            </a:xfrm>
            <a:prstGeom prst="hexagon">
              <a:avLst>
                <a:gd name="adj" fmla="val 28901"/>
                <a:gd name="vf" fmla="val 11547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870600" y="2630160"/>
              <a:ext cx="658800" cy="36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870600" y="3787920"/>
              <a:ext cx="65880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9200" y="2995560"/>
              <a:ext cx="144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778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ные формул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965160"/>
            <a:ext cx="7129440" cy="574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нзол не обесцвечивает бромную воду и раств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695760" cy="453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672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бужд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ви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ави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электронные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пендикуля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139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6160" y="2851200"/>
            <a:ext cx="292716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15228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роение молекулы бензо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92360" y="1079640"/>
          <a:ext cx="5506920" cy="53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79640"/>
                    <a:ext cx="55069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бразование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-связей в молекуле бен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92360" y="1268280"/>
          <a:ext cx="59752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268280"/>
                    <a:ext cx="59752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штабная модель молекулы бен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33640" y="2230560"/>
          <a:ext cx="327672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3640" y="2230560"/>
                    <a:ext cx="327672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зические свойства бен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836640"/>
          <a:ext cx="352584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36640"/>
                    <a:ext cx="352584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219640" y="242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гкокипя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сцветная 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067280" y="1125360"/>
          <a:ext cx="4968720" cy="5059440"/>
        </p:xfrm>
        <a:graphic>
          <a:graphicData uri="http://schemas.openxmlformats.org/drawingml/2006/table">
            <a:tbl>
              <a:tblPr/>
              <a:tblGrid>
                <a:gridCol w="2649600"/>
                <a:gridCol w="2319120"/>
              </a:tblGrid>
              <a:tr h="94644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.5 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кип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0.1 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084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Токсичен, опасен для окружающей среды, огнеопасе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Температура самовозгор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19152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61 °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кипящая бесцветная жидкость, не растворяется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иологическое действ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больших дозах бензол вызывает тошноту и головокружение, а в некоторых тяжёлых случаях отравление бензолом может вести к смертельному исходу. Если организм человека подвергается длительному воздействию бензола в малых количествах, последствия также могут быть очень серьёзными. В этом случае отравление бензолом может стать причиной лейкемии (рака крови) и анемии (недостатка гемоглобина в крови). Источником бензола в квартирах и офисах служат табачный дым, картриджи ксероксов, принтеры, ковровые покрытия, краски и лаки, а также поверхностно-активные вещества (ПА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жидкости  показал, что данное вещество содержи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2, 3% углерода, 7,7 % водорода.   Плотность паров этого вещества по воздуху  равна 2,69. Определите формулу данн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бенз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840120" cy="26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640" y="4869000"/>
            <a:ext cx="79930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f0718"/>
                </a:solidFill>
                <a:latin typeface="Verdana"/>
                <a:ea typeface="Arial"/>
              </a:rPr>
              <a:t>Бензол и его пары ядовиты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633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 прочитать, записи выуч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- 5, 7 стр.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852640"/>
            <a:ext cx="6840720" cy="26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вам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состав и строение молекулы бензола,   выяснить физические свойства бенз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30508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203640" cy="23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10680"/>
            <a:ext cx="8226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573000"/>
            <a:ext cx="83516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ены. Электронное строение молекулы бензола.  Физические свой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60280"/>
            <a:ext cx="894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34136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роматический» не означает «аромат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5640" y="476280"/>
            <a:ext cx="7705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160720" cy="309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26920" y="1052640"/>
            <a:ext cx="603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первые бензол о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мецкий химик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ганн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уб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торый получил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единение в 164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гонки каменноуго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молы. Но названия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получило, и со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го был неизвес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791-18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ё второе р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нзол получил благод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там Фарадея. Бенз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 открыт в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82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глийским физ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ом Фараде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торый выделил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жидкого конденс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тильного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95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йльгард Мичерлих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794- 18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3466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833 году немецкий физико-химик Эйльгард Мичерлих получил бензол при сухой перегонке кальциевой соли бензо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ислоты (и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этого и произошло название бензол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951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ные форм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≡ 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С ≡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С ≡ С –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Н –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≡ С – С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8:05:36Z</dcterms:created>
  <dc:creator>я</dc:creator>
  <dc:description/>
  <dc:language>en-US</dc:language>
  <cp:lastModifiedBy>1</cp:lastModifiedBy>
  <dcterms:modified xsi:type="dcterms:W3CDTF">2010-02-12T08:03:01Z</dcterms:modified>
  <cp:revision>7</cp:revision>
  <dc:subject/>
  <dc:title>Тема урока:</dc:title>
</cp:coreProperties>
</file>