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3.gif" ContentType="image/gif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683-B3B7-4453-9451-B250C860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8D8-2950-498F-8017-4109B376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5D4-9901-4790-99D3-78977AD8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A17-9B51-4604-9843-F4E86971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CB0-4E11-443C-BAFD-C615B658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0DD-1CD5-4713-86C7-E1C41B7A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71E-6674-4A9B-AFEE-5369206A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E99-4411-4EA8-9C63-A10C89C9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BE1-EE85-4B4D-8217-A2E45FF1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E05-E17E-4EF5-B39A-410C87D7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4E3-D34A-44AA-85B6-EFFF2563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28C-ABCB-4E5E-B3F8-C6E1F6BB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A2258-6556-48DB-89AF-4F9CF3852EA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Georgia"/>
              </a:rPr>
              <a:t>«Не в количестве знаний заключается образование,</a:t>
            </a: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Georgia"/>
              </a:rPr>
              <a:t>а в полном понимании и искусном применении всего</a:t>
            </a: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Georgia"/>
              </a:rPr>
              <a:t>того, что знаешь».</a:t>
            </a:r>
            <a:br>
              <a:rPr sz="36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.Дистерве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1940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87280" y="33336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04640"/>
            <a:ext cx="46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иболее полно свойства бенз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л немецкий хим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идрих Август К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же предложил циклическ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у бензола в 186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871720" cy="3828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4365720"/>
            <a:ext cx="288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идрих Август Кекуле(1829-18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71640" y="5130720"/>
            <a:ext cx="1471680" cy="1727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24360" y="3141720"/>
            <a:ext cx="2539800" cy="3327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04000" y="530064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Хоровод обезьянок, взявшихся за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молекулы бенз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81000" y="2492280"/>
            <a:ext cx="1557360" cy="1800360"/>
            <a:chOff x="981000" y="2492280"/>
            <a:chExt cx="1557360" cy="1800360"/>
          </a:xfrm>
        </p:grpSpPr>
        <p:sp>
          <p:nvSpPr>
            <p:cNvPr id="72" name=""/>
            <p:cNvSpPr/>
            <p:nvPr/>
          </p:nvSpPr>
          <p:spPr>
            <a:xfrm rot="5400000">
              <a:off x="859320" y="2613600"/>
              <a:ext cx="1800360" cy="1557360"/>
            </a:xfrm>
            <a:prstGeom prst="hexagon">
              <a:avLst>
                <a:gd name="adj" fmla="val 28901"/>
                <a:gd name="vf" fmla="val 11547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089000" y="2630160"/>
              <a:ext cx="649440" cy="36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89000" y="3787920"/>
              <a:ext cx="64944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14520" y="2995560"/>
              <a:ext cx="1800" cy="79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774600" y="3141720"/>
            <a:ext cx="1233720" cy="217440"/>
            <a:chOff x="3774600" y="3141720"/>
            <a:chExt cx="1233720" cy="217440"/>
          </a:xfrm>
        </p:grpSpPr>
        <p:sp>
          <p:nvSpPr>
            <p:cNvPr id="77" name=""/>
            <p:cNvSpPr/>
            <p:nvPr/>
          </p:nvSpPr>
          <p:spPr>
            <a:xfrm>
              <a:off x="3780000" y="3141720"/>
              <a:ext cx="1223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774600" y="3357720"/>
              <a:ext cx="1233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94440" y="2492280"/>
            <a:ext cx="1557360" cy="1800360"/>
            <a:chOff x="6094440" y="2492280"/>
            <a:chExt cx="1557360" cy="1800360"/>
          </a:xfrm>
        </p:grpSpPr>
        <p:sp>
          <p:nvSpPr>
            <p:cNvPr id="80" name=""/>
            <p:cNvSpPr/>
            <p:nvPr/>
          </p:nvSpPr>
          <p:spPr>
            <a:xfrm flipH="1" rot="16200000">
              <a:off x="5972760" y="2613600"/>
              <a:ext cx="1800360" cy="1557360"/>
            </a:xfrm>
            <a:prstGeom prst="hexagon">
              <a:avLst>
                <a:gd name="adj" fmla="val 28901"/>
                <a:gd name="vf" fmla="val 11547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6870600" y="2630160"/>
              <a:ext cx="658800" cy="36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6870600" y="3787920"/>
              <a:ext cx="65880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99200" y="2995560"/>
              <a:ext cx="1440" cy="79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778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уктурные формул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03280" y="965160"/>
            <a:ext cx="7129440" cy="574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ензол не обесцвечивает бромную воду и раство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695760" cy="4535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67200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збужден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ави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ави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2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–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– электронные обл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пендикуляр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0,139 н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оскос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26160" y="2851200"/>
            <a:ext cx="292716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0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-15228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троение молекулы бензо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92360" y="1079640"/>
          <a:ext cx="5506920" cy="53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79640"/>
                    <a:ext cx="55069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бразование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-связей в молекуле бенз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92360" y="1268280"/>
          <a:ext cx="59752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268280"/>
                    <a:ext cx="59752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0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сштабная модель молекулы бенз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933640" y="2230560"/>
          <a:ext cx="3276720" cy="32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3640" y="2230560"/>
                    <a:ext cx="327672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0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зические свойства бен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8000" y="836640"/>
          <a:ext cx="352584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836640"/>
                    <a:ext cx="352584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219640" y="242100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гкокипящ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есцветная жид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067280" y="1125360"/>
          <a:ext cx="4968720" cy="5059440"/>
        </p:xfrm>
        <a:graphic>
          <a:graphicData uri="http://schemas.openxmlformats.org/drawingml/2006/table">
            <a:tbl>
              <a:tblPr/>
              <a:tblGrid>
                <a:gridCol w="2649600"/>
                <a:gridCol w="2319120"/>
              </a:tblGrid>
              <a:tr h="946440">
                <a:tc>
                  <a:txBody>
                    <a:bodyPr lIns="90000" rIns="90000" tIns="1710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00ff"/>
                          </a:solidFill>
                          <a:latin typeface="Times New Roman"/>
                        </a:rPr>
                        <a:t>Температура плав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19152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.5 °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080">
                <a:tc>
                  <a:txBody>
                    <a:bodyPr lIns="90000" rIns="90000" tIns="1710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00ff"/>
                          </a:solidFill>
                          <a:latin typeface="Times New Roman"/>
                        </a:rPr>
                        <a:t>Температура кип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19152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0.1 °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20840">
                <a:tc>
                  <a:txBody>
                    <a:bodyPr lIns="90000" rIns="90000" tIns="1710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00ff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19152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Токсичен, опасен для окружающей среды, огнеопасе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080">
                <a:tc>
                  <a:txBody>
                    <a:bodyPr lIns="90000" rIns="90000" tIns="1710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00ff"/>
                          </a:solidFill>
                          <a:latin typeface="Times New Roman"/>
                        </a:rPr>
                        <a:t>Температура самовозгор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19152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61 °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0" y="5445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гкокипящая бесцветная жидкость, не растворяется в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dur="indefinite" fill="hold">
                      <p:stCondLst>
                        <p:cond delay="0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иологическое действ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428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больших дозах бензол вызывает тошноту и головокружение, а в некоторых тяжёлых случаях отравление бензолом может вести к смертельному исходу. Если организм человека подвергается длительному воздействию бензола в малых количествах, последствия также могут быть очень серьёзными. В этом случае отравление бензолом может стать причиной лейкемии (рака крови) и анемии (недостатка гемоглобина в крови). Источником бензола в квартирах и офисах служат табачный дым, картриджи ксероксов, принтеры, ковровые покрытия, краски и лаки, а также поверхностно-активные вещества (ПА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жидкости  показал, что данное вещество содержи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2, 3% углерода, 7,7 % водорода.   Плотность паров этого вещества по воздуху  равна 2,69. Определите формулу данного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е свойства бенз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048120" cy="273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3840120" cy="2664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5640" y="4869000"/>
            <a:ext cx="799308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f0718"/>
                </a:solidFill>
                <a:latin typeface="Verdana"/>
                <a:ea typeface="Arial"/>
              </a:rPr>
              <a:t>Бензол и его пары ядовиты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6337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8 прочитать, записи выуч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- 5, 7 стр. 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2852640"/>
            <a:ext cx="6840720" cy="266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работу!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аю вам удачи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состав и строение молекулы бензола,   выяснить физические свойства бенз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4005360"/>
            <a:ext cx="2305080" cy="1801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16360" y="3573360"/>
            <a:ext cx="3203640" cy="23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310680"/>
            <a:ext cx="8226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573000"/>
            <a:ext cx="83516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рены. Электронное строение молекулы бензола.  Физические свой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60280"/>
            <a:ext cx="894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341360"/>
            <a:ext cx="82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Ароматический» не означает «аромат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55640" y="476280"/>
            <a:ext cx="770580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27640" y="907920"/>
            <a:ext cx="2160720" cy="309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826920" y="1052640"/>
            <a:ext cx="603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первые бензол о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мецкий химик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оганн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лаубе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торый получил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единение в 1649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результа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егонки каменноуго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молы. Но названия ве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 получило, и соста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го был неизвест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йкл Фарадей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791-186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оё второе ро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ензол получил благод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ботам Фарадея. Бензо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л открыт в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182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глийским физ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йклом Фараде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торый выделил 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 жидкого конденс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етильного г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9527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йльгард Мичерлих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1794- 186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3466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1833 году немецкий физико-химик Эйльгард Мичерлих получил бензол при сухой перегонке кальциевой соли бензой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ислоты (им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этого и произошло название бензол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29512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0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ные форму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≡С – 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≡ С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≡С – 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С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С ≡ 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С ≡ С – 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СН – 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≡ С – С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8:05:36Z</dcterms:created>
  <dc:creator>я</dc:creator>
  <dc:description/>
  <dc:language>en-US</dc:language>
  <cp:lastModifiedBy>1</cp:lastModifiedBy>
  <dcterms:modified xsi:type="dcterms:W3CDTF">2010-02-12T08:03:01Z</dcterms:modified>
  <cp:revision>7</cp:revision>
  <dc:subject/>
  <dc:title>Тема урока:</dc:title>
</cp:coreProperties>
</file>