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797-43FA-422C-8B0A-C498C8D6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368-770E-406E-9460-96840BE0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11A-DC5E-4DB9-A781-D07360C2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2F6-E506-4AA0-B376-E475FA18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200D-D9D0-4AA4-B433-FBB82174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2569-6E14-462C-AF70-13FC3B1D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5DD4-107B-4EA4-A89F-677B325D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889D-8514-4E4F-AA34-DA2166EB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4D8E-2043-4A99-8434-F5E69562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922B-04F7-4D66-9D82-A7426827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4425-6140-494E-9B12-40FB8D6D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469-A602-4EF2-9F28-4F25D7D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41B6-65B2-4C14-BF05-6ADBE4DE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95FF-8CB1-4AD9-87BD-456CA918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0AA7-AEF5-4F18-B7A3-F89DFF5A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6B04-8BD1-4974-A0B0-D0E66865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F44A-1AE4-4626-BECE-92D362BA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16A-606E-4C52-AD81-C26F5440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52E-1C28-4302-B16E-A95C60F4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986-1E93-48BE-BAC1-CCA9DC6C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F9D-C73C-4465-B3C9-AFA2740D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C8D-E748-4405-8404-CDCCBF0C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255-34DD-43B4-9165-36C1AFA5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674-9D09-423C-99D1-60689E22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A449-3BF9-430A-9B6A-364520B79A1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86E9-332D-429E-A919-BD3A5428CC1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26920" y="620640"/>
            <a:ext cx="504216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нзол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его свойств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43736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Black"/>
              </a:rPr>
              <a:t>Получени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712944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Бензол получают из каменноугольной смолы, образующейся при коксовании угля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В настоящее время  бензол получают из нефти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Бензол получают  синтетическими методами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2952720" cy="29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315720"/>
            <a:ext cx="7608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Black"/>
              </a:rPr>
              <a:t>Другие способы получени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4280" y="1795320"/>
            <a:ext cx="576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14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 + 4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12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 + 3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3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16720" y="2924280"/>
            <a:ext cx="2379600" cy="24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315720"/>
            <a:ext cx="7537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Black"/>
              </a:rPr>
              <a:t>Природные источники получения</a:t>
            </a:r>
            <a:r>
              <a:rPr b="0" lang="en-US" sz="4800" spc="-1" strike="noStrike">
                <a:solidFill>
                  <a:srgbClr val="009900"/>
                </a:solidFill>
                <a:latin typeface="Arial Black"/>
              </a:rPr>
              <a:t>: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Природные и попутные газы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Нефть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Каменный уголь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Black"/>
              </a:rPr>
              <a:t>Применени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Black"/>
              </a:rPr>
              <a:t>История открытия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614680" cy="3747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468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первые бензол описал немецкий химик Иоганн Глаубер, который получил это соединение в 1649 году в результате перегонки каменно-угольной смолы. Но ни названия вещество не получило, ни состав его не был известен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 Black"/>
              </a:rPr>
              <a:t>Второе рождение</a:t>
            </a: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4280" y="1795320"/>
            <a:ext cx="5553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Arial"/>
              </a:rPr>
              <a:t>Своё второе рождение бензол получил благодаря работам Фарадея. Бензол был открыт в 1825 году английским физиком Майклом Фарадеем, который выделил его из жидкого конденсата светильного газа</a:t>
            </a:r>
            <a:r>
              <a:rPr b="1" lang="en-US" sz="26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72360" y="2492280"/>
            <a:ext cx="2771640" cy="267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Black"/>
              </a:rPr>
              <a:t>Новое  получение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4640" y="1794960"/>
            <a:ext cx="5192640" cy="46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В 1833 году немецкий физико-химик Эйльгард Мичерлих получил бензол при сухой перегонке кальциевой соли бензойной кислоты (именно от этого и произошло название бензол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78400" y="2924280"/>
            <a:ext cx="2865600" cy="3671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Black"/>
              </a:rPr>
              <a:t>Строение  бензола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7" name="" descr="Формулы бензола"/>
          <p:cNvPicPr/>
          <p:nvPr/>
        </p:nvPicPr>
        <p:blipFill>
          <a:blip r:embed="rId1"/>
          <a:stretch/>
        </p:blipFill>
        <p:spPr>
          <a:xfrm>
            <a:off x="3564000" y="1380960"/>
            <a:ext cx="5580000" cy="5116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12720" y="2421000"/>
            <a:ext cx="299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В свое  время было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предложено много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вариантов структурны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формул бензола, но ни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одна из них не смогл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удовлетворительно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объяснить его особые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свойства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Цикличность  строени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бензола  подтверждаетс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тем  фактом, что его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однозамещенные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производные не   имеют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изомеров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 Black"/>
              </a:rPr>
              <a:t>Схема перекрывания облаков в молекул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0" name="" descr="Облако пи-электронов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9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Квантовомеханическая теория и молекула бензо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79532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Немецкий химик  Э. Хюккель применил к ароматическим соединениям квантовомеханическую теорию и показал, что шесть </a:t>
            </a:r>
            <a:r>
              <a:rPr b="0" lang="el-GR" sz="2800" spc="-1" strike="noStrike">
                <a:solidFill>
                  <a:srgbClr val="f8f8f8"/>
                </a:solidFill>
                <a:latin typeface="Arial"/>
                <a:ea typeface="Arial"/>
              </a:rPr>
              <a:t>π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-электронов молекулы бензола располагаются в плоскости, перпендикулярной плоскости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молекулы, взаимно перекрываются и образуют замкнутое электронное облако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Физические свойства</a:t>
            </a: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Бензол представляет собой бесцветную, легкоподвижную жидкость с температурой кипения +80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С и температурой плавления + 5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С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Он обладает своеобразным запахом, горит сильно коптящим пламенем, легче  воды и не растворяется в ней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Пары бензола с воздухом образуют взрывчатую смесь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Black"/>
              </a:rPr>
              <a:t>Химические свойств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4640" y="1341360"/>
            <a:ext cx="78264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.Горение бензола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С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 + 15О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 = 12СО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 + 6Н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. Реакция замещения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   C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r  + HB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 Нитрование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+ НО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          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+ 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. Гидрирование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+ 3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     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. Хлорирование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+ 3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    C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3068640"/>
            <a:ext cx="4320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4076640"/>
            <a:ext cx="64944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5084640"/>
            <a:ext cx="43308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6021360"/>
            <a:ext cx="43164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9:34:32Z</dcterms:created>
  <dc:creator>Слюсарь А.П.</dc:creator>
  <dc:description/>
  <dc:language>en-US</dc:language>
  <cp:lastModifiedBy>Учитель</cp:lastModifiedBy>
  <dcterms:modified xsi:type="dcterms:W3CDTF">2010-02-05T06:09:02Z</dcterms:modified>
  <cp:revision>6</cp:revision>
  <dc:subject>Углеводороды</dc:subject>
  <dc:title>Бензол и его совйства</dc:title>
</cp:coreProperties>
</file>