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CEC-FC6E-40E3-B9CD-575AFC59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A8D-1806-4CAB-8AF6-C5047B39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B6E-169F-4342-A441-0E5597FE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D11-30E5-41F2-ABA0-CE7F4BF2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7D9-B832-4164-8C28-0F5AB028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4AF-6C12-4094-B623-1C11AEFF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09D-30FC-49AF-BCE0-BCB8BD1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58-1E81-45AE-91AB-4ADC34D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38C-735F-479F-B5C5-2431C32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ED7-7686-4C7B-826A-C277B8B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337-BE31-4348-A659-3876A89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660-0160-47BD-92D5-5CD1B91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EA07-37F5-4D1C-B0AA-7DB0298DC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02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Оричевская средняя общеобразовательная школа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1484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645000"/>
            <a:ext cx="3671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лищева Ю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Целищева Е.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дагог – 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ворова Г.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гт. Оричи, 2008 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2205000"/>
            <a:ext cx="756144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14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Биологические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 </a:t>
            </a: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ритмы человека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9700"/>
            </a:gs>
            <a:gs pos="50000">
              <a:srgbClr val="ffff00"/>
            </a:gs>
            <a:gs pos="100000">
              <a:srgbClr val="fe9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Биоритмо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с 1 по 11 лунные сутк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наблюдается психиче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и физическая неустойчив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 12 по 26 лунные сутки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психическая и физиче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активность более устойчи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521080" cy="1674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1763640" y="33336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5050"/>
                    </a:gs>
                  </a:gsLst>
                  <a:lin ang="13500000"/>
                </a:gradFill>
                <a:latin typeface="Book Antiqua"/>
              </a:rPr>
              <a:t>Метод исследования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5050"/>
                  </a:gs>
                </a:gsLst>
                <a:lin ang="13500000"/>
              </a:gradFill>
              <a:latin typeface="Book Antiqua"/>
              <a:ea typeface="Book Antiqu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3280" y="1916280"/>
            <a:ext cx="352908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33cc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Book Antiqua"/>
              </a:rPr>
              <a:t>Результат</a:t>
            </a:r>
            <a:endParaRPr b="1" i="1" lang="en-US" sz="24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33cc"/>
                  </a:gs>
                  <a:gs pos="100000">
                    <a:srgbClr val="ff0066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6000" y="4653000"/>
            <a:ext cx="2521080" cy="18716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 spd="slow">
    <p:cover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-360" y="456840"/>
            <a:ext cx="883908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Штрих - т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до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часов п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работо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часов – утомляем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до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часов фаз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часов – общая утомляем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0920" y="476280"/>
            <a:ext cx="532944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4c004c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b000ee"/>
                    </a:gs>
                    <a:gs pos="100000">
                      <a:srgbClr val="b400b4"/>
                    </a:gs>
                  </a:gsLst>
                  <a:lin ang="5400000"/>
                </a:gradFill>
                <a:latin typeface="Book Antiqua"/>
              </a:rPr>
              <a:t>Метод исследования</a:t>
            </a:r>
            <a:endParaRPr b="1" i="1" lang="en-US" sz="2400" spc="1" strike="noStrike">
              <a:ln w="9360">
                <a:solidFill>
                  <a:srgbClr val="4c004c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b000ee"/>
                  </a:gs>
                  <a:gs pos="100000">
                    <a:srgbClr val="b400b4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03640" y="2349360"/>
            <a:ext cx="3024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622ff1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Book Antiqua"/>
              </a:rPr>
              <a:t>Результат</a:t>
            </a:r>
            <a:endParaRPr b="1" i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622ff1"/>
                  </a:gs>
                  <a:gs pos="100000">
                    <a:srgbClr val="0000ff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1768680" cy="23065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1724040" cy="23288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 spd="slow">
    <p:cover dir="l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7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1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00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2133720"/>
            <a:ext cx="856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Выявленные индивидуальные ритмы активности и пассивности в течение суток и лунного месяца позволят правильно организовать режимы деятельности психической и физической активности для оптимальной работо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03640" y="83664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00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Book Antiqua"/>
              </a:rPr>
              <a:t>Вывод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0066"/>
                  </a:gs>
                  <a:gs pos="100000">
                    <a:srgbClr val="ff0000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55640" y="1125360"/>
            <a:ext cx="7848720" cy="388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1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Соблюдай 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2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3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ритмы природы 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4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5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и согласуй 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6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7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свою деятельность с ними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8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ffff00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1484280"/>
            <a:ext cx="6048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9900"/>
                    </a:gs>
                    <a:gs pos="100000">
                      <a:srgbClr val="006600"/>
                    </a:gs>
                  </a:gsLst>
                  <a:lin ang="8100000"/>
                </a:gradFill>
                <a:latin typeface="Book Antiqua"/>
              </a:rPr>
              <a:t>Спасибо </a:t>
            </a:r>
            <a:endParaRPr b="1" i="1" lang="en-US" sz="2400" spc="1" strike="noStrike">
              <a:ln w="32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9900"/>
                  </a:gs>
                  <a:gs pos="100000">
                    <a:srgbClr val="006600"/>
                  </a:gs>
                </a:gsLst>
                <a:lin ang="81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9900"/>
                    </a:gs>
                    <a:gs pos="100000">
                      <a:srgbClr val="006600"/>
                    </a:gs>
                  </a:gsLst>
                  <a:lin ang="8100000"/>
                </a:gradFill>
                <a:latin typeface="Book Antiqua"/>
              </a:rPr>
              <a:t>за </a:t>
            </a:r>
            <a:endParaRPr b="1" i="1" lang="en-US" sz="2400" spc="1" strike="noStrike">
              <a:ln w="32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9900"/>
                  </a:gs>
                  <a:gs pos="100000">
                    <a:srgbClr val="006600"/>
                  </a:gs>
                </a:gsLst>
                <a:lin ang="81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9900"/>
                    </a:gs>
                    <a:gs pos="100000">
                      <a:srgbClr val="006600"/>
                    </a:gs>
                  </a:gsLst>
                  <a:lin ang="8100000"/>
                </a:gradFill>
                <a:latin typeface="Book Antiqua"/>
              </a:rPr>
              <a:t>внимание!</a:t>
            </a:r>
            <a:endParaRPr b="1" i="1" lang="en-US" sz="2400" spc="1" strike="noStrike">
              <a:ln w="32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9900"/>
                  </a:gs>
                  <a:gs pos="100000">
                    <a:srgbClr val="0066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учить особенности индивидуальных биоритмов человека для оптимизации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 своей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ботоспособ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03280" y="1125360"/>
            <a:ext cx="655344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Цель проектной рабо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)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   изучит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и проанализироват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теоретический материал по т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)    освоить правила, технику проведения и обработки   результатов тестовых методи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анализировать полученные результаты исследов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)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работать рекомендации по оптимизации  работо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40384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87640" y="69228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ff3399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Book Antiqua"/>
              </a:rPr>
              <a:t>Задачи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ff3399"/>
                  </a:gs>
                  <a:gs pos="100000">
                    <a:srgbClr val="cc66ff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2276640"/>
            <a:ext cx="80769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-й этап –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в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оре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-й этап –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ытн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перимент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I-й этап –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ключительн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обобщающ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76360" y="907920"/>
            <a:ext cx="619128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Этапы исследования: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это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собая наук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уч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ающая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ритм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ы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активности и пассивности, протекающих в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живом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рганизме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гласно этой науке, большинство процессов, происходящих в нашем организме, синхронизированы с периодическим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лнечно-лунно-земными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 также космическими влияниями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95640" y="620640"/>
            <a:ext cx="5113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Биоритмология -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1944720" cy="1366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4941720"/>
            <a:ext cx="1905120" cy="1435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4941720"/>
            <a:ext cx="1944720" cy="1425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>
    <p:cover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00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П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дъем работоспосо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человека наблюдае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 8 до12 часов и с 17до 19 час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Снижение функций организма прослежи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 2 до 3 часов и с 13 до 15 час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6000" y="836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Индивидуальные биорит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00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357120"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Физическая активность – длительность 23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Эмоциональная активность – 28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Интеллектуальная активность – 33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-ую половину любого из этих циклов челов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чувствует себя лучше, чем во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I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-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аивысшая физическая активность с 1 по 12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поднятое настроение в первые 12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аивысшая интеллектуальная активность с 1 по 17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920" y="620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00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Book Antiqua"/>
              </a:rPr>
              <a:t>Физиологические циклы 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0066"/>
                  </a:gs>
                  <a:gs pos="100000">
                    <a:srgbClr val="ff3300"/>
                  </a:gs>
                </a:gsLst>
                <a:lin ang="54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00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Book Antiqua"/>
              </a:rPr>
              <a:t>активности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0066"/>
                  </a:gs>
                  <a:gs pos="100000">
                    <a:srgbClr val="ff3300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0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42228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Врожденные, генетически закрепленные биорит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42228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Биоритмы, формирующиеся под влияниями факторов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42228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Биоритмы, формирующиеся искусственным путем за счет обучения под влиянием социальны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620640"/>
            <a:ext cx="838836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0000"/>
                    </a:gs>
                    <a:gs pos="100000">
                      <a:srgbClr val="a50021"/>
                    </a:gs>
                  </a:gsLst>
                  <a:lin ang="13500000"/>
                </a:gradFill>
                <a:latin typeface="Book Antiqua"/>
              </a:rPr>
              <a:t>Механизмы формирования 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0000"/>
                  </a:gs>
                  <a:gs pos="100000">
                    <a:srgbClr val="a50021"/>
                  </a:gs>
                </a:gsLst>
                <a:lin ang="135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0000"/>
                    </a:gs>
                    <a:gs pos="100000">
                      <a:srgbClr val="a50021"/>
                    </a:gs>
                  </a:gsLst>
                  <a:lin ang="13500000"/>
                </a:gradFill>
                <a:latin typeface="Book Antiqua"/>
              </a:rPr>
              <a:t>биоритмов человека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0000"/>
                  </a:gs>
                  <a:gs pos="100000">
                    <a:srgbClr val="a50021"/>
                  </a:gs>
                </a:gsLst>
                <a:lin ang="135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Тес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«Тип работоспособ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Слабовыраженный утренний ти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765000"/>
            <a:ext cx="547200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Метод исследования 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16360" y="3500280"/>
            <a:ext cx="3081240" cy="781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0066"/>
                    </a:gs>
                    <a:gs pos="100000">
                      <a:srgbClr val="ff00ff"/>
                    </a:gs>
                  </a:gsLst>
                  <a:lin ang="8100000"/>
                </a:gradFill>
                <a:latin typeface="Book Antiqua"/>
              </a:rPr>
              <a:t>Результат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0066"/>
                  </a:gs>
                  <a:gs pos="100000">
                    <a:srgbClr val="ff00ff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19:06Z</dcterms:created>
  <dc:creator>555</dc:creator>
  <dc:description/>
  <dc:language>en-US</dc:language>
  <cp:lastModifiedBy>Admin</cp:lastModifiedBy>
  <dcterms:modified xsi:type="dcterms:W3CDTF">2009-07-08T07:30:40Z</dcterms:modified>
  <cp:revision>35</cp:revision>
  <dc:subject/>
  <dc:title>Биологические  ритмы человека </dc:title>
</cp:coreProperties>
</file>