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B34B-B237-4F53-947F-6A0F2EC7B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4283-28C5-4C7E-B592-BDA3895B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BDFB-DF83-48B7-9B18-694D14F0C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AE3B-BEA5-41B3-AE66-36148D45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A959-CD87-4757-8E6E-656DDEEA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AF7F-44BE-4541-8D26-AAED3FC2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B445-3178-4AE9-BF15-4CB74695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2A9C-524A-45F0-8456-8CAAC6F5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7E9E-4251-473D-A859-C52926F3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F2D0-D65F-4471-B839-C412FE87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995B-14A8-4610-BD5D-039E8897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63A7-A00F-4A15-A467-EEE512F7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D65F-CE5C-469D-AAB5-CF1E57FEE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6028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ОУ Оричевская средняя общеобразовательная школа №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80000" y="1484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16360" y="3645000"/>
            <a:ext cx="36716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полнила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Целищева Юл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ченица 10 «а» кла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уководитель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Целищева Е.Ф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едагог – психоло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читель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уворова Г.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6093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гт. Оричи, 2008 г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00000" y="2205000"/>
            <a:ext cx="7561440" cy="165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2146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9933ff"/>
                    </a:gs>
                  </a:gsLst>
                  <a:path path="rect">
                    <a:fillToRect l="50000" t="50000" r="50000" b="50000"/>
                  </a:path>
                </a:gradFill>
                <a:latin typeface="Book Antiqua"/>
              </a:rPr>
              <a:t>Биологические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9933ff"/>
                  </a:gs>
                </a:gsLst>
                <a:path path="rect">
                  <a:fillToRect l="50000" t="50000" r="50000" b="50000"/>
                </a:path>
              </a:gra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9933ff"/>
                    </a:gs>
                  </a:gsLst>
                  <a:path path="rect">
                    <a:fillToRect l="50000" t="50000" r="50000" b="50000"/>
                  </a:path>
                </a:gradFill>
                <a:latin typeface="Book Antiqua"/>
              </a:rPr>
              <a:t> </a:t>
            </a: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9933ff"/>
                    </a:gs>
                  </a:gsLst>
                  <a:path path="rect">
                    <a:fillToRect l="50000" t="50000" r="50000" b="50000"/>
                  </a:path>
                </a:gradFill>
                <a:latin typeface="Book Antiqua"/>
              </a:rPr>
              <a:t>ритмы человека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9933ff"/>
                  </a:gs>
                </a:gsLst>
                <a:path path="rect">
                  <a:fillToRect l="50000" t="50000" r="50000" b="50000"/>
                </a:path>
              </a:gradFill>
              <a:latin typeface="Book Antiqua"/>
              <a:ea typeface="Book Antiqua"/>
            </a:endParaRPr>
          </a:p>
        </p:txBody>
      </p:sp>
    </p:spTree>
  </p:cSld>
  <p:transition spd="slow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9700"/>
            </a:gs>
            <a:gs pos="50000">
              <a:srgbClr val="ffff00"/>
            </a:gs>
            <a:gs pos="100000">
              <a:srgbClr val="fe9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Биоритмоте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с 1 по 11 лунные сутки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наблюдается психическ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и физическая неустойчивос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с 12 по 26 лунные сутки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психическая и физическ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активность более устойчив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796000" y="2781360"/>
            <a:ext cx="2521080" cy="167472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sp>
        <p:nvSpPr>
          <p:cNvPr id="70" name=""/>
          <p:cNvSpPr txBox="1"/>
          <p:nvPr/>
        </p:nvSpPr>
        <p:spPr>
          <a:xfrm>
            <a:off x="1763640" y="333360"/>
            <a:ext cx="568800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5050"/>
                    </a:gs>
                  </a:gsLst>
                  <a:lin ang="13500000"/>
                </a:gradFill>
                <a:latin typeface="Book Antiqua"/>
              </a:rPr>
              <a:t>Метод исследования</a:t>
            </a:r>
            <a:endParaRPr b="1" i="1" lang="en-US" sz="24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5050"/>
                  </a:gs>
                </a:gsLst>
                <a:lin ang="13500000"/>
              </a:gradFill>
              <a:latin typeface="Book Antiqua"/>
              <a:ea typeface="Book Antiqu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843280" y="1916280"/>
            <a:ext cx="3529080" cy="790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3333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50000">
                      <a:srgbClr val="ff33cc"/>
                    </a:gs>
                    <a:gs pos="100000">
                      <a:srgbClr val="ff0066"/>
                    </a:gs>
                  </a:gsLst>
                  <a:lin ang="5400000"/>
                </a:gradFill>
                <a:latin typeface="Book Antiqua"/>
              </a:rPr>
              <a:t>Результат</a:t>
            </a:r>
            <a:endParaRPr b="1" i="1" lang="en-US" sz="2400" spc="1" strike="noStrike">
              <a:ln w="9360">
                <a:solidFill>
                  <a:srgbClr val="3333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50000">
                    <a:srgbClr val="ff33cc"/>
                  </a:gs>
                  <a:gs pos="100000">
                    <a:srgbClr val="ff0066"/>
                  </a:gs>
                </a:gsLst>
                <a:lin ang="5400000"/>
              </a:gradFill>
              <a:latin typeface="Book Antiqua"/>
              <a:ea typeface="Book Antiqu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796000" y="4653000"/>
            <a:ext cx="2521080" cy="187164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</p:spTree>
  </p:cSld>
  <p:transition spd="slow">
    <p:cover dir="lu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7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3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6" dur="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ffff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-360" y="456840"/>
            <a:ext cx="8839080" cy="51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Штрих - те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                   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с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до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часов пи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                   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работоспособ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                   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в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5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часов – утомляем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с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7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до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9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часов фаза актив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в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0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часов – общая утомляем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050920" y="476280"/>
            <a:ext cx="532944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4c004c"/>
                  </a:solidFill>
                  <a:miter/>
                </a:ln>
                <a:gradFill rotWithShape="0">
                  <a:gsLst>
                    <a:gs pos="0">
                      <a:srgbClr val="b400b4"/>
                    </a:gs>
                    <a:gs pos="50000">
                      <a:srgbClr val="b000ee"/>
                    </a:gs>
                    <a:gs pos="100000">
                      <a:srgbClr val="b400b4"/>
                    </a:gs>
                  </a:gsLst>
                  <a:lin ang="5400000"/>
                </a:gradFill>
                <a:latin typeface="Book Antiqua"/>
              </a:rPr>
              <a:t>Метод исследования</a:t>
            </a:r>
            <a:endParaRPr b="1" i="1" lang="en-US" sz="2400" spc="1" strike="noStrike">
              <a:ln w="9360">
                <a:solidFill>
                  <a:srgbClr val="4c004c"/>
                </a:solidFill>
                <a:miter/>
              </a:ln>
              <a:gradFill rotWithShape="0">
                <a:gsLst>
                  <a:gs pos="0">
                    <a:srgbClr val="b400b4"/>
                  </a:gs>
                  <a:gs pos="50000">
                    <a:srgbClr val="b000ee"/>
                  </a:gs>
                  <a:gs pos="100000">
                    <a:srgbClr val="b400b4"/>
                  </a:gs>
                </a:gsLst>
                <a:lin ang="5400000"/>
              </a:gradFill>
              <a:latin typeface="Book Antiqua"/>
              <a:ea typeface="Book Antiqu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03640" y="2349360"/>
            <a:ext cx="302400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622ff1"/>
                    </a:gs>
                    <a:gs pos="100000">
                      <a:srgbClr val="0000ff"/>
                    </a:gs>
                  </a:gsLst>
                  <a:lin ang="8100000"/>
                </a:gradFill>
                <a:latin typeface="Book Antiqua"/>
              </a:rPr>
              <a:t>Результат</a:t>
            </a:r>
            <a:endParaRPr b="1" i="1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622ff1"/>
                  </a:gs>
                  <a:gs pos="100000">
                    <a:srgbClr val="0000ff"/>
                  </a:gs>
                </a:gsLst>
                <a:lin ang="8100000"/>
              </a:gradFill>
              <a:latin typeface="Book Antiqua"/>
              <a:ea typeface="Book Antiqu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164360" y="3357720"/>
            <a:ext cx="1768680" cy="230652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50920" y="3284640"/>
            <a:ext cx="1724040" cy="232884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</p:spTree>
  </p:cSld>
  <p:transition spd="slow">
    <p:cover dir="lu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8" dur="1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3" dur="1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7" dur="1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7" dur="10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000"/>
                            </p:stCondLst>
                            <p:childTnLst>
                              <p:par>
                                <p:cTn id="4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6" dur="10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1" dur="10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50000">
              <a:srgbClr val="ffff00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50560" y="2133720"/>
            <a:ext cx="856908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Выявленные индивидуальные ритмы активности и пассивности в течение суток и лунного месяца позволят правильно организовать режимы деятельности психической и физической активности для оптимальной работоспособ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03640" y="836640"/>
            <a:ext cx="266364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0066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Book Antiqua"/>
              </a:rPr>
              <a:t>Вывод</a:t>
            </a:r>
            <a:endParaRPr b="1" i="1" lang="en-US" sz="2400" spc="1" strike="noStrike">
              <a:ln w="93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0066"/>
                  </a:gs>
                  <a:gs pos="100000">
                    <a:srgbClr val="ff0000"/>
                  </a:gs>
                </a:gsLst>
                <a:lin ang="5400000"/>
              </a:gradFill>
              <a:latin typeface="Book Antiqua"/>
              <a:ea typeface="Book Antiqua"/>
            </a:endParaRPr>
          </a:p>
        </p:txBody>
      </p:sp>
    </p:spTree>
  </p:cSld>
  <p:transition spd="slow">
    <p:cover dir="lu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3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755640" y="1125360"/>
            <a:ext cx="7848720" cy="388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3240">
                  <a:solidFill>
                    <a:srgbClr val="333333"/>
                  </a:solidFill>
                  <a:miter/>
                </a:ln>
                <a:blipFill rotWithShape="0">
                  <a:blip r:embed="rId1">
                    <a:alphaModFix amt="99000"/>
                  </a:blip>
                  <a:srcRect/>
                  <a:tile tx="0" ty="0" sx="100000" sy="100000" algn="ctr"/>
                </a:blipFill>
                <a:latin typeface="Book Antiqua"/>
              </a:rPr>
              <a:t>Соблюдай </a:t>
            </a:r>
            <a:endParaRPr b="1" i="1" lang="en-US" sz="2400" spc="1" strike="noStrike">
              <a:ln w="3240">
                <a:solidFill>
                  <a:srgbClr val="333333"/>
                </a:solidFill>
                <a:miter/>
              </a:ln>
              <a:blipFill rotWithShape="0">
                <a:blip r:embed="rId2">
                  <a:alphaModFix amt="99000"/>
                </a:blip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3240">
                  <a:solidFill>
                    <a:srgbClr val="333333"/>
                  </a:solidFill>
                  <a:miter/>
                </a:ln>
                <a:blipFill rotWithShape="0">
                  <a:blip r:embed="rId3">
                    <a:alphaModFix amt="99000"/>
                  </a:blip>
                  <a:srcRect/>
                  <a:tile tx="0" ty="0" sx="100000" sy="100000" algn="ctr"/>
                </a:blipFill>
                <a:latin typeface="Book Antiqua"/>
              </a:rPr>
              <a:t>ритмы природы </a:t>
            </a:r>
            <a:endParaRPr b="1" i="1" lang="en-US" sz="2400" spc="1" strike="noStrike">
              <a:ln w="3240">
                <a:solidFill>
                  <a:srgbClr val="333333"/>
                </a:solidFill>
                <a:miter/>
              </a:ln>
              <a:blipFill rotWithShape="0">
                <a:blip r:embed="rId4">
                  <a:alphaModFix amt="99000"/>
                </a:blip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3240">
                  <a:solidFill>
                    <a:srgbClr val="333333"/>
                  </a:solidFill>
                  <a:miter/>
                </a:ln>
                <a:blipFill rotWithShape="0">
                  <a:blip r:embed="rId5">
                    <a:alphaModFix amt="99000"/>
                  </a:blip>
                  <a:srcRect/>
                  <a:tile tx="0" ty="0" sx="100000" sy="100000" algn="ctr"/>
                </a:blipFill>
                <a:latin typeface="Book Antiqua"/>
              </a:rPr>
              <a:t>и согласуй </a:t>
            </a:r>
            <a:endParaRPr b="1" i="1" lang="en-US" sz="2400" spc="1" strike="noStrike">
              <a:ln w="3240">
                <a:solidFill>
                  <a:srgbClr val="333333"/>
                </a:solidFill>
                <a:miter/>
              </a:ln>
              <a:blipFill rotWithShape="0">
                <a:blip r:embed="rId6">
                  <a:alphaModFix amt="99000"/>
                </a:blip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3240">
                  <a:solidFill>
                    <a:srgbClr val="333333"/>
                  </a:solidFill>
                  <a:miter/>
                </a:ln>
                <a:blipFill rotWithShape="0">
                  <a:blip r:embed="rId7">
                    <a:alphaModFix amt="99000"/>
                  </a:blip>
                  <a:srcRect/>
                  <a:tile tx="0" ty="0" sx="100000" sy="100000" algn="ctr"/>
                </a:blipFill>
                <a:latin typeface="Book Antiqua"/>
              </a:rPr>
              <a:t>свою деятельность с ними</a:t>
            </a:r>
            <a:endParaRPr b="1" i="1" lang="en-US" sz="2400" spc="1" strike="noStrike">
              <a:ln w="3240">
                <a:solidFill>
                  <a:srgbClr val="333333"/>
                </a:solidFill>
                <a:miter/>
              </a:ln>
              <a:blipFill rotWithShape="0">
                <a:blip r:embed="rId8">
                  <a:alphaModFix amt="99000"/>
                </a:blip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</p:spTree>
  </p:cSld>
  <p:transition spd="slow">
    <p:cover dir="lu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50000">
              <a:srgbClr val="ffff00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692360" y="1484280"/>
            <a:ext cx="6048360" cy="36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324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50000">
                      <a:srgbClr val="009900"/>
                    </a:gs>
                    <a:gs pos="100000">
                      <a:srgbClr val="006600"/>
                    </a:gs>
                  </a:gsLst>
                  <a:lin ang="8100000"/>
                </a:gradFill>
                <a:latin typeface="Book Antiqua"/>
              </a:rPr>
              <a:t>Спасибо </a:t>
            </a:r>
            <a:endParaRPr b="1" i="1" lang="en-US" sz="2400" spc="1" strike="noStrike">
              <a:ln w="324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50000">
                    <a:srgbClr val="009900"/>
                  </a:gs>
                  <a:gs pos="100000">
                    <a:srgbClr val="006600"/>
                  </a:gs>
                </a:gsLst>
                <a:lin ang="8100000"/>
              </a:gra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324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50000">
                      <a:srgbClr val="009900"/>
                    </a:gs>
                    <a:gs pos="100000">
                      <a:srgbClr val="006600"/>
                    </a:gs>
                  </a:gsLst>
                  <a:lin ang="8100000"/>
                </a:gradFill>
                <a:latin typeface="Book Antiqua"/>
              </a:rPr>
              <a:t>за </a:t>
            </a:r>
            <a:endParaRPr b="1" i="1" lang="en-US" sz="2400" spc="1" strike="noStrike">
              <a:ln w="324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50000">
                    <a:srgbClr val="009900"/>
                  </a:gs>
                  <a:gs pos="100000">
                    <a:srgbClr val="006600"/>
                  </a:gs>
                </a:gsLst>
                <a:lin ang="8100000"/>
              </a:gra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324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50000">
                      <a:srgbClr val="009900"/>
                    </a:gs>
                    <a:gs pos="100000">
                      <a:srgbClr val="006600"/>
                    </a:gs>
                  </a:gsLst>
                  <a:lin ang="8100000"/>
                </a:gradFill>
                <a:latin typeface="Book Antiqua"/>
              </a:rPr>
              <a:t>внимание!</a:t>
            </a:r>
            <a:endParaRPr b="1" i="1" lang="en-US" sz="2400" spc="1" strike="noStrike">
              <a:ln w="324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50000">
                    <a:srgbClr val="009900"/>
                  </a:gs>
                  <a:gs pos="100000">
                    <a:srgbClr val="006600"/>
                  </a:gs>
                </a:gsLst>
                <a:lin ang="8100000"/>
              </a:gradFill>
              <a:latin typeface="Book Antiqua"/>
              <a:ea typeface="Book Antiqua"/>
            </a:endParaRPr>
          </a:p>
        </p:txBody>
      </p:sp>
    </p:spTree>
  </p:cSld>
  <p:transition spd="slow">
    <p:cover dir="lu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4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00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99640" y="234936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зучить особенности индивидуальных биоритмов человека для оптимизации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 своей 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работоспособност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403280" y="1125360"/>
            <a:ext cx="6553440" cy="1008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990000"/>
                    </a:gs>
                  </a:gsLst>
                  <a:path path="rect">
                    <a:fillToRect l="50000" t="50000" r="50000" b="50000"/>
                  </a:path>
                </a:gradFill>
                <a:latin typeface="Book Antiqua"/>
              </a:rPr>
              <a:t>Цель проектной работы: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990000"/>
                  </a:gs>
                </a:gsLst>
                <a:path path="rect">
                  <a:fillToRect l="50000" t="50000" r="50000" b="50000"/>
                </a:path>
              </a:gradFill>
              <a:latin typeface="Book Antiqua"/>
              <a:ea typeface="Book Antiqua"/>
            </a:endParaRPr>
          </a:p>
        </p:txBody>
      </p:sp>
    </p:spTree>
  </p:cSld>
  <p:transition spd="slow">
    <p:cover dir="l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00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1760" y="1447560"/>
            <a:ext cx="7848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1)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   изучить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 и проанализировать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теоретический материал по тем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2)    освоить правила, технику проведения и обработки   результатов тестовых методи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660033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оанализировать полученные результаты исследован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4)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разработать рекомендации по оптимизации  работоспособ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2895480"/>
            <a:ext cx="6933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403848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987640" y="692280"/>
            <a:ext cx="3168720" cy="79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66ff"/>
                    </a:gs>
                    <a:gs pos="50000">
                      <a:srgbClr val="ff3399"/>
                    </a:gs>
                    <a:gs pos="100000">
                      <a:srgbClr val="cc66ff"/>
                    </a:gs>
                  </a:gsLst>
                  <a:lin ang="5400000"/>
                </a:gradFill>
                <a:latin typeface="Book Antiqua"/>
              </a:rPr>
              <a:t>Задачи: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66ff"/>
                  </a:gs>
                  <a:gs pos="50000">
                    <a:srgbClr val="ff3399"/>
                  </a:gs>
                  <a:gs pos="100000">
                    <a:srgbClr val="cc66ff"/>
                  </a:gs>
                </a:gsLst>
                <a:lin ang="5400000"/>
              </a:gradFill>
              <a:latin typeface="Book Antiqua"/>
              <a:ea typeface="Book Antiqua"/>
            </a:endParaRPr>
          </a:p>
        </p:txBody>
      </p:sp>
    </p:spTree>
  </p:cSld>
  <p:transition spd="slow">
    <p:cover dir="l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11280" y="2276640"/>
            <a:ext cx="807696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I-й этап – </a:t>
            </a:r>
            <a:r>
              <a:rPr b="1" i="1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</a:t>
            </a: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и</a:t>
            </a:r>
            <a:r>
              <a:rPr b="1" i="1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ково</a:t>
            </a: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теоретиче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II-й этап – </a:t>
            </a:r>
            <a:r>
              <a:rPr b="1" i="1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пытно</a:t>
            </a: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ксперименталь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III-й этап – </a:t>
            </a:r>
            <a:r>
              <a:rPr b="1" i="1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ключительно</a:t>
            </a: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 обобщающ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76360" y="907920"/>
            <a:ext cx="6191280" cy="1008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Book Antiqua"/>
              </a:rPr>
              <a:t>Этапы исследования: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Book Antiqua"/>
              <a:ea typeface="Book Antiqua"/>
            </a:endParaRPr>
          </a:p>
        </p:txBody>
      </p:sp>
    </p:spTree>
  </p:cSld>
  <p:transition spd="slow">
    <p:cover dir="l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50000">
              <a:srgbClr val="ffff00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84247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это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собая наука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и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уч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ающая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ритм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ы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активности и пассивности, протекающих в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живом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рганизме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Times New Roman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Согласно этой науке, большинство процессов, происходящих в нашем организме, синхронизированы с периодическими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солнечно-лунно-земными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а также космическими влияниями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195640" y="620640"/>
            <a:ext cx="5113080" cy="93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ff"/>
                    </a:gs>
                    <a:gs pos="100000">
                      <a:srgbClr val="cc00ff"/>
                    </a:gs>
                  </a:gsLst>
                  <a:path path="rect">
                    <a:fillToRect l="50000" t="50000" r="50000" b="50000"/>
                  </a:path>
                </a:gradFill>
                <a:latin typeface="Book Antiqua"/>
              </a:rPr>
              <a:t>Биоритмология -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ff"/>
                  </a:gs>
                  <a:gs pos="100000">
                    <a:srgbClr val="cc00ff"/>
                  </a:gs>
                </a:gsLst>
                <a:path path="rect">
                  <a:fillToRect l="50000" t="50000" r="50000" b="50000"/>
                </a:path>
              </a:gradFill>
              <a:latin typeface="Book Antiqua"/>
              <a:ea typeface="Book Antiqu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227640" y="4941720"/>
            <a:ext cx="1944720" cy="13669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187280" y="4941720"/>
            <a:ext cx="1905120" cy="14353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708360" y="4941720"/>
            <a:ext cx="1944720" cy="14256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p:transition spd="slow">
    <p:cover dir="l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00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П</a:t>
            </a:r>
            <a:r>
              <a:rPr b="0" lang="en-US" sz="3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одъем работоспособно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человека наблюдаетс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с 8 до12 часов и с 17до 19 часо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Снижение функций организма прослеживает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с 2 до 3 часов и с 13 до 15 часо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116000" y="836640"/>
            <a:ext cx="6769080" cy="86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ff"/>
                    </a:gs>
                    <a:gs pos="100000">
                      <a:srgbClr val="0099ff"/>
                    </a:gs>
                  </a:gsLst>
                  <a:path path="rect">
                    <a:fillToRect l="50000" t="50000" r="50000" b="50000"/>
                  </a:path>
                </a:gradFill>
                <a:latin typeface="Book Antiqua"/>
              </a:rPr>
              <a:t>Индивидуальные биоритмы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ff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atin typeface="Book Antiqua"/>
              <a:ea typeface="Book Antiqua"/>
            </a:endParaRPr>
          </a:p>
        </p:txBody>
      </p:sp>
    </p:spTree>
  </p:cSld>
  <p:transition spd="slow">
    <p:cover dir="lu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00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4240" indent="-357120">
              <a:spcBef>
                <a:spcPts val="601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Физическая активность – длительность 23 д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4240" indent="-357120">
              <a:spcBef>
                <a:spcPts val="601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Эмоциональная активность – 28 д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4240" indent="-357120">
              <a:spcBef>
                <a:spcPts val="601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Интеллектуальная активность – 33 д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42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42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В </a:t>
            </a:r>
            <a:r>
              <a:rPr b="1" i="1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I</a:t>
            </a: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-ую половину любого из этих циклов челове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42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чувствует себя лучше, чем во </a:t>
            </a:r>
            <a:r>
              <a:rPr b="1" i="1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II</a:t>
            </a: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-у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4240" indent="-357120"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Наивысшая физическая активность с 1 по 12 д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4240" indent="-357120"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риподнятое настроение в первые 12 д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4240" indent="-357120"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Наивысшая интеллектуальная активность с 1 по 17 д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26920" y="620640"/>
            <a:ext cx="7632720" cy="107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0066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Book Antiqua"/>
              </a:rPr>
              <a:t>Физиологические циклы </a:t>
            </a:r>
            <a:endParaRPr b="1" i="1" lang="en-US" sz="2400" spc="1" strike="noStrike">
              <a:ln w="93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0066"/>
                  </a:gs>
                  <a:gs pos="100000">
                    <a:srgbClr val="ff3300"/>
                  </a:gs>
                </a:gsLst>
                <a:lin ang="5400000"/>
              </a:gra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0066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Book Antiqua"/>
              </a:rPr>
              <a:t>активности</a:t>
            </a:r>
            <a:endParaRPr b="1" i="1" lang="en-US" sz="2400" spc="1" strike="noStrike">
              <a:ln w="93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0066"/>
                  </a:gs>
                  <a:gs pos="100000">
                    <a:srgbClr val="ff3300"/>
                  </a:gs>
                </a:gsLst>
                <a:lin ang="5400000"/>
              </a:gradFill>
              <a:latin typeface="Book Antiqua"/>
              <a:ea typeface="Book Antiqua"/>
            </a:endParaRPr>
          </a:p>
        </p:txBody>
      </p:sp>
    </p:spTree>
  </p:cSld>
  <p:transition spd="slow">
    <p:cover dir="lu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9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1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1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50000">
              <a:srgbClr val="ffff00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4360" y="25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42228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Врожденные, генетически закрепленные биорит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42228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Биоритмы, формирующиеся под влияниями факторов внешней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422280"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Биоритмы, формирующиеся искусственным путем за счет обучения под влиянием социальных факто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620640"/>
            <a:ext cx="8388360" cy="144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50000">
                      <a:srgbClr val="ff0000"/>
                    </a:gs>
                    <a:gs pos="100000">
                      <a:srgbClr val="a50021"/>
                    </a:gs>
                  </a:gsLst>
                  <a:lin ang="13500000"/>
                </a:gradFill>
                <a:latin typeface="Book Antiqua"/>
              </a:rPr>
              <a:t>Механизмы формирования </a:t>
            </a:r>
            <a:endParaRPr b="1" i="1" lang="en-US" sz="2400" spc="1" strike="noStrike">
              <a:ln w="93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50000">
                    <a:srgbClr val="ff0000"/>
                  </a:gs>
                  <a:gs pos="100000">
                    <a:srgbClr val="a50021"/>
                  </a:gs>
                </a:gsLst>
                <a:lin ang="13500000"/>
              </a:gra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50000">
                      <a:srgbClr val="ff0000"/>
                    </a:gs>
                    <a:gs pos="100000">
                      <a:srgbClr val="a50021"/>
                    </a:gs>
                  </a:gsLst>
                  <a:lin ang="13500000"/>
                </a:gradFill>
                <a:latin typeface="Book Antiqua"/>
              </a:rPr>
              <a:t>биоритмов человека</a:t>
            </a:r>
            <a:endParaRPr b="1" i="1" lang="en-US" sz="2400" spc="1" strike="noStrike">
              <a:ln w="93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50000">
                    <a:srgbClr val="ff0000"/>
                  </a:gs>
                  <a:gs pos="100000">
                    <a:srgbClr val="a50021"/>
                  </a:gs>
                </a:gsLst>
                <a:lin ang="13500000"/>
              </a:gradFill>
              <a:latin typeface="Book Antiqua"/>
              <a:ea typeface="Book Antiqua"/>
            </a:endParaRPr>
          </a:p>
        </p:txBody>
      </p:sp>
    </p:spTree>
  </p:cSld>
  <p:transition spd="slow">
    <p:cover dir="lu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ffff00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09480" y="2057040"/>
            <a:ext cx="83822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Тес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«Тип работоспособност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Слабовыраженный утренний ти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979640" y="765000"/>
            <a:ext cx="5472000" cy="79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00ff"/>
                    </a:gs>
                  </a:gsLst>
                  <a:path path="rect">
                    <a:fillToRect l="50000" t="50000" r="50000" b="50000"/>
                  </a:path>
                </a:gradFill>
                <a:latin typeface="Book Antiqua"/>
              </a:rPr>
              <a:t>Метод исследования </a:t>
            </a:r>
            <a:endParaRPr b="1" i="1" lang="en-US" sz="2400" spc="1" strike="noStrike">
              <a:ln w="93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00ff"/>
                  </a:gs>
                </a:gsLst>
                <a:path path="rect">
                  <a:fillToRect l="50000" t="50000" r="50000" b="50000"/>
                </a:path>
              </a:gradFill>
              <a:latin typeface="Book Antiqua"/>
              <a:ea typeface="Book Antiqu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916360" y="3500280"/>
            <a:ext cx="3081240" cy="781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ff0066"/>
                    </a:gs>
                    <a:gs pos="100000">
                      <a:srgbClr val="ff00ff"/>
                    </a:gs>
                  </a:gsLst>
                  <a:lin ang="8100000"/>
                </a:gradFill>
                <a:latin typeface="Book Antiqua"/>
              </a:rPr>
              <a:t>Результат</a:t>
            </a:r>
            <a:endParaRPr b="1" i="1" lang="en-US" sz="2400" spc="1" strike="noStrike">
              <a:ln w="93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50000">
                    <a:srgbClr val="ff0066"/>
                  </a:gs>
                  <a:gs pos="100000">
                    <a:srgbClr val="ff00ff"/>
                  </a:gs>
                </a:gsLst>
                <a:lin ang="8100000"/>
              </a:gradFill>
              <a:latin typeface="Book Antiqua"/>
              <a:ea typeface="Book Antiqua"/>
            </a:endParaRPr>
          </a:p>
        </p:txBody>
      </p:sp>
    </p:spTree>
  </p:cSld>
  <p:transition spd="slow">
    <p:cover dir="lu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8:19:06Z</dcterms:created>
  <dc:creator>555</dc:creator>
  <dc:description/>
  <dc:language>en-US</dc:language>
  <cp:lastModifiedBy>Admin</cp:lastModifiedBy>
  <dcterms:modified xsi:type="dcterms:W3CDTF">2009-07-08T07:30:40Z</dcterms:modified>
  <cp:revision>35</cp:revision>
  <dc:subject/>
  <dc:title>Биологические  ритмы человека </dc:title>
</cp:coreProperties>
</file>