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305-8816-4957-9D12-81BF9034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053-06AB-47A1-9647-56970991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E05A-685E-46AD-A14E-274745DE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262-5911-4359-AB98-CEAA6285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97B-5ADF-4B5E-A4C6-0CBBBA8A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294-FAA3-4393-A96D-D285C12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241-06F0-43D0-806D-D8F8BABC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726-3F4D-4287-B7BE-DE6EE8D7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EBC-0936-4BC8-8B6F-F7488AA3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136-95EE-4EA9-B7AB-DD7569E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7E8-51D1-426C-A161-7B74C40C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702-B10B-4A5C-A6D1-75321DB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BAD-A004-4304-88E1-78117F7E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762120"/>
            <a:ext cx="7467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ете ли вы, что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32004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52880" y="1752480"/>
            <a:ext cx="358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ловек со дня рождения находится в трех биологических ритмах: физическом, эмоциональном и интеллектуальном. Это не зависит ни от расы, ни от национальности человека, ни от каких либо других факторов, т.к. биоритмы - это отражение организмом цикличности явлений, идущих в природе. Особенно отчетливо проявляются суточное вращение Земли, видимое вращение Луны вокруг Земли, годичное движение Солн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человека не только сон, но и многие другие функции подчинены суточному ритму. Примеры тому – повышение и понижение кровяного давления и выделения калия и натрия почками, колебания времени рефлекса, потливости ладоней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666880" cy="354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48640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ЛАВНЫЙ "ДИРИЖЕР"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ИОЛОГИ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ИТМ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14600" y="685800"/>
            <a:ext cx="418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мире интерес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09680" y="533520"/>
            <a:ext cx="44769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временный спорт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тмы и рекорд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213372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784600" cy="289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48520" y="3276720"/>
            <a:ext cx="212544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3520" y="1905120"/>
            <a:ext cx="8001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обратить внимание на календарь любых спортивных соревнований, то можно заметить, что большинство из них планируется таким образом, чтобы наиболее интенсивная часть программы приходилась на определенные отрезки времени: утренние часы с 10 до 12 и вечерние с 17 до 19 ч. Эти часы суток оказываются самыми близкими к естественным подъемам работоспособности в течение дня у большинства людей, поэтому в этот период времени можно ожидать наибольш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066680" y="9144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асы в нашем тел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0"/>
            <a:ext cx="85345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мастерства: Пальцы наиболее проворны между 15 и 16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контактов: Наше рукопожатие сильнее всего между 9 и 10 час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визита к врачу: наша кожа наименее чувствительная к уколам в 9 часов утра. Общее правило рационального назначения лекарств: до 11-12 часов натощак. Они хорошо всасываются и меньше всего разрушаются в печен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физической культуры: наши мышцы работают с наибольшей отдачей в 13-30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пищеварения: Больше всего желудочного сока образуется в 13 ч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иммунитета: Наиболее эффективно иммунная система предохраняет от инфекции в 22 час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рождения: Большинство детей появляются на свет между 24 и 4 часами утра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вялости: Самое низкое кровяное давление – между 4 и 5 часами утра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спорта: Наиболее интенсивно легкие дышат между 16 и 18 часам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органов чувств: Чувство вкуса, слух и обоняние особенно обострены меду 17 и 19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роста: Волосы и ногти отрастают быстрее всего между 16 и 18 –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творчества: Наиболее эффективно мозг работает между 10 и 1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общения: Тяжелее всего одиночество переносится между 20 и 22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красоты: Кожа наиболее проницаема для косметических средств между 18 и 20 часами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 слепоты: Острота зрения у автомобилистов снижается сильнее всего в 2 часа ноч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7-08T07:31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