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9BF-3EE2-4186-AD14-8FB67F82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380-C643-4EAB-B088-CCF5650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7AA-344B-4724-A994-14A3B5F3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4E8-54C2-40EF-B8B4-2F44C066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500-72E4-4011-8BDF-BA8B73A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F6D-7284-412A-B724-9BA672A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172-4D7E-4AB7-B6BD-7D2C057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369-E176-4222-B816-6AF9495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C47-414C-43FF-ABA5-818E609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0C3-0DD4-496C-857B-A691CA3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40D-F689-411E-A3D0-9862656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526-ACCC-4841-95B0-029EA5C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A10-F449-4AF0-88D2-70142151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762120"/>
            <a:ext cx="7467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ете ли вы, что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32004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2880" y="1752480"/>
            <a:ext cx="358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ловек со дня рождения находится в трех биологических ритмах: физическом, эмоциональном и интеллектуальном. Это не зависит ни от расы, ни от национальности человека, ни от каких либо других факторов, т.к. биоритмы - это отражение организмом цикличности явлений, идущих в природе. Особенно отчетливо проявляются суточное вращение Земли, видимое вращение Луны вокруг Земли, годичное движение Солн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человека не только сон, но и многие другие функции подчинены суточному ритму. Примеры тому – повышение и понижение кровяного давления и выделения калия и натрия почками, колебания времени рефлекса, потливости ладоней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666880" cy="354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48640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ЛАВНЫЙ "ДИРИЖЕР"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ИОЛОГИ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ИТМ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685800"/>
            <a:ext cx="418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ире интерес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09680" y="533520"/>
            <a:ext cx="4476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ременный спорт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тмы и рекорд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213372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78460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12544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905120"/>
            <a:ext cx="8001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обратить внимание на календарь любых спортивных соревнований, то можно заметить, что большинство из них планируется таким образом, чтобы наиболее интенсивная часть программы приходилась на определенные отрезки времени: утренние часы с 10 до 12 и вечерние с 17 до 19 ч. Эти часы суток оказываются самыми близкими к естественным подъемам работоспособности в течение дня у большинства людей, поэтому в этот период времени можно ожидать наибольш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9144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ы в нашем тел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0"/>
            <a:ext cx="85345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мастерства: Пальцы наиболее проворны между 15 и 16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контактов: Наше рукопожатие сильнее всего между 9 и 10 час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визита к врачу: наша кожа наименее чувствительная к уколам в 9 часов утра. Общее правило рационального назначения лекарств: до 11-12 часов натощак. Они хорошо всасываются и меньше всего разрушаются в печен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физической культуры: наши мышцы работают с наибольшей отдачей в 13-3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пищеварения: Больше всего желудочного сока образуется в 13 ч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иммунитета: Наиболее эффективно иммунная система предохраняет от инфекции в 22 час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рождения: Большинство детей появляются на свет между 24 и 4 часами утр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вялости: Самое низкое кровяное давление – между 4 и 5 часами утра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спорта: Наиболее интенсивно легкие дышат между 16 и 18 часам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органов чувств: Чувство вкуса, слух и обоняние особенно обострены меду 17 и 19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роста: Волосы и ногти отрастают быстрее всего между 16 и 18 –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творчества: Наиболее эффективно мозг работает между 10 и 1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общения: Тяжелее всего одиночество переносится между 20 и 2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красоты: Кожа наиболее проницаема для косметических средств между 18 и 20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слепоты: Острота зрения у автомобилистов снижается сильнее всего в 2 часа ноч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7-08T07:31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