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4D0-9C73-4A63-B27D-999F5204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571-3683-41E1-B4F7-0AC235F5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3C1-4F92-4858-B9CE-5D10ED36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5DA-703D-4B3C-9219-0514CCC3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23C-AADD-496E-A5EB-74D6E58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0E59-A490-4E25-861F-5191124F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5059-6D91-480F-B870-1C66F6E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5B0E-04DC-4825-95C5-AB1DE7D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A49C-7CE2-4C92-A77F-024EA2A6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978-C1F4-45AD-9A6D-835F8C7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45F6-18C9-43B6-BB6D-819C126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006-6C8B-43C2-AD93-B477A21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A1B-8509-4DCE-AD7D-A5183CC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1600-0A48-4DBF-B332-9EA89CB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BEE-7301-4ED8-B043-63F1928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097-18A8-418C-A0F9-951281ED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62A-CA1C-4965-9361-D008986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AFA-3919-48C2-9B24-E90C20B6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B9C-FF17-4760-97C2-0924598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629-9EB5-460D-8098-D353868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4E7-D947-4D65-8901-BA58C614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404-9919-44A8-B447-8E1E1B8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0A4-1CF0-40CF-8A2C-EF4E260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086-0E73-4045-8885-7469F7B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BB1F-A23F-47B8-AED9-2514B85C04B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A67-8F7E-4263-A8B3-B630AAB644B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692280"/>
            <a:ext cx="6696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8eefe"/>
                </a:solidFill>
                <a:latin typeface="Arial"/>
              </a:rPr>
              <a:t>Дыхательная гимнастика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8eefe"/>
                </a:solidFill>
                <a:latin typeface="Arial"/>
              </a:rPr>
              <a:t>упражнение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8eefe"/>
                </a:solidFill>
                <a:latin typeface="Arial"/>
              </a:rPr>
              <a:t>«Музыкальный алфавит»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40464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404640"/>
            <a:ext cx="720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eefe"/>
                </a:solidFill>
                <a:latin typeface="Arial"/>
              </a:rPr>
              <a:t>Мягкий знак, ы,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eefe"/>
                </a:solidFill>
                <a:latin typeface="Arial"/>
              </a:rPr>
              <a:t>твёрдый знак, Э,Ю,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eefe"/>
                </a:solidFill>
                <a:latin typeface="Arial"/>
              </a:rPr>
              <a:t>Наизусть весь алфавит знаю 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404640"/>
            <a:ext cx="684036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eefe"/>
                </a:solidFill>
                <a:latin typeface="Arial"/>
              </a:rPr>
              <a:t>АБВГДЕЁЖЗИЙКЛМ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eefe"/>
                </a:solidFill>
                <a:latin typeface="Arial"/>
              </a:rPr>
              <a:t>ОПРСТУФХЦЧШЩ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eefe"/>
                </a:solidFill>
                <a:latin typeface="Arial"/>
              </a:rPr>
              <a:t>Мягкий  знак, ы, твёрдый знак, ЭЮ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8eefe"/>
                </a:solidFill>
                <a:latin typeface="Arial"/>
              </a:rPr>
              <a:t>Наизусть весь алфавит знаю 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197000"/>
            <a:ext cx="662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58eefe"/>
                </a:solidFill>
                <a:latin typeface="Arial"/>
              </a:rPr>
              <a:t>АБВГДЕЁ</a:t>
            </a:r>
            <a:endParaRPr b="0" lang="en-US" sz="10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9640" y="1125360"/>
            <a:ext cx="691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58eefe"/>
                </a:solidFill>
                <a:latin typeface="Arial"/>
              </a:rPr>
              <a:t>Ж З И Й К</a:t>
            </a:r>
            <a:endParaRPr b="0" lang="en-US" sz="10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981000"/>
            <a:ext cx="752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58eefe"/>
                </a:solidFill>
                <a:latin typeface="Arial"/>
              </a:rPr>
              <a:t>ЛМНОПРС</a:t>
            </a:r>
            <a:endParaRPr b="0" lang="en-US" sz="10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17002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8eefe"/>
                </a:solidFill>
                <a:latin typeface="Arial"/>
              </a:rPr>
              <a:t>ТУФХЦЧШЩ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1125360"/>
            <a:ext cx="7667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Мягкий знак, ы,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твёрдый знак,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ЭЮЯ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549360"/>
            <a:ext cx="6912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Наизусть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весь алфавит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58eefe"/>
                </a:solidFill>
                <a:latin typeface="Arial"/>
              </a:rPr>
              <a:t>знаю я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9640" y="47628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4640"/>
            <a:ext cx="70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8eefe"/>
                </a:solidFill>
                <a:latin typeface="Arial"/>
              </a:rPr>
              <a:t>АБВГДЕЁ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8eefe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58eefe"/>
                </a:solidFill>
                <a:latin typeface="Arial"/>
              </a:rPr>
              <a:t>ЖЗИЙК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9640" y="69228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8eefe"/>
                </a:solidFill>
                <a:latin typeface="Arial"/>
              </a:rPr>
              <a:t>ЛМНОПРС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8eefe"/>
                </a:solidFill>
                <a:latin typeface="Arial"/>
              </a:rPr>
              <a:t>ТУФХЦЧШЩ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9:08:33Z</dcterms:created>
  <dc:creator>User</dc:creator>
  <dc:description/>
  <dc:language>en-US</dc:language>
  <cp:lastModifiedBy>завуч3</cp:lastModifiedBy>
  <dcterms:modified xsi:type="dcterms:W3CDTF">2008-10-14T10:35:35Z</dcterms:modified>
  <cp:revision>3</cp:revision>
  <dc:subject/>
  <dc:title>Слайд 1</dc:title>
</cp:coreProperties>
</file>