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917-D1D4-4CB1-BDF4-55958269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6599-4F6C-4745-84A5-40E72BDC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A2B-07FA-4A95-BEB8-1D152F3B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424-0A51-4616-ADEE-38180BB4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B50C-8C7B-4921-BAF8-1025DC80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D039-DAC6-4DB2-9F12-156C7BCA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647-1B74-482B-BB74-4AE34922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2B3-8561-4C20-9940-B74975DC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0301-7F39-4AEE-973D-1BA31845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2A92-BDA0-44DF-80B7-50F7C37D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5D5D-FB65-44FC-8838-9F8FC2D5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8A4-59F0-45AB-BCC8-662E8177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8F02-68D4-4150-B426-6A7BD540A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Такие разные обра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-15840"/>
            <a:ext cx="727236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Не следует употреблять обращение «девушка» по отношению к женщине зрелого возраста – это звучит невежли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6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Неуместно употребление в речи просторечных обращений: тётенька, дяденька, женщина, мужчина, бабка, дорогу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1. Выяснить, как обращаются к незнакомому человеку в вашей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2. Обращение – характерный признак письма. Напишите письмо своему однокласс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Знать способы выражения обра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Научиться употреблять уместные обращения в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Группа №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В устной или письменной речи чаще всего применяются обращения? Докажите свою точку з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Какую роль играют обращения в общ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Группа №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Чем может быть выражено обращение? (см. схем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Приведите примеры обращений, указывающих на возраст, степень родства, професс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Фамилия</a:t>
            </a:r>
            <a:r>
              <a:rPr b="0" i="1" lang="en-US" sz="2800" spc="-1" strike="noStrike">
                <a:solidFill>
                  <a:srgbClr val="cc6600"/>
                </a:solidFill>
                <a:latin typeface="Arial"/>
              </a:rPr>
              <a:t> – наследственное наимен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Имя</a:t>
            </a:r>
            <a:r>
              <a:rPr b="0" i="1" lang="en-US" sz="2800" spc="-1" strike="noStrike">
                <a:solidFill>
                  <a:srgbClr val="cc6600"/>
                </a:solidFill>
                <a:latin typeface="Arial"/>
              </a:rPr>
              <a:t> каждому из нас подбирали род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Отчество </a:t>
            </a:r>
            <a:r>
              <a:rPr b="0" i="1" lang="en-US" sz="2800" spc="-1" strike="noStrike">
                <a:solidFill>
                  <a:srgbClr val="cc6600"/>
                </a:solidFill>
                <a:latin typeface="Arial"/>
              </a:rPr>
              <a:t>образовано от имени от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4247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Группа №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Почему прозвища находятся в схеме обособлен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От чего зависит выбор конкретного обращения? Приведите прим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ff6600"/>
                </a:solidFill>
                <a:latin typeface="Arial"/>
              </a:rPr>
              <a:t>Прозвище</a:t>
            </a: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 – название, даваемое человеку по какой-нибудь характерной ему черте, свойст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Обращения, принятые в других стран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Англоязычные ст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            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К аудитор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леди и джентльм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6600"/>
                </a:solidFill>
                <a:latin typeface="Arial"/>
              </a:rPr>
              <a:t>            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К знакомым людям:</a:t>
            </a:r>
            <a:r>
              <a:rPr b="0" i="1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-  мистер + фамил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-  миссис + фамилия (к замужней женщин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-  мисс + фамилия (к незамужней женщин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           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К незнакомым людям, к старш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- сэр, мадам, ми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-47520"/>
            <a:ext cx="741708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cc6600"/>
                </a:solidFill>
                <a:latin typeface="Arial"/>
              </a:rPr>
              <a:t>Не всякой незнакомой пожилой  женщине можно сказать: «Бабушка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cc6600"/>
                </a:solidFill>
                <a:latin typeface="Arial"/>
              </a:rPr>
              <a:t>Задавая вопрос, можно обойтись только местоимением «вы» в сочетании со словами «извините» и «пожалуйст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cc6600"/>
                </a:solidFill>
                <a:latin typeface="Arial"/>
              </a:rPr>
              <a:t>С любым незнакомым человеком мы должны быть  на «в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6:47:16Z</dcterms:created>
  <dc:creator>Учитель Информатики</dc:creator>
  <dc:description/>
  <dc:language>en-US</dc:language>
  <cp:lastModifiedBy>Admin</cp:lastModifiedBy>
  <dcterms:modified xsi:type="dcterms:W3CDTF">2009-07-08T07:12:37Z</dcterms:modified>
  <cp:revision>7</cp:revision>
  <dc:subject/>
  <dc:title>Слайд 1</dc:title>
</cp:coreProperties>
</file>