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D08E2-A23A-407E-B558-FA6E602B4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89FAF-7842-497F-8A83-170E25727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CBEA9-AA34-46ED-88FF-34BF9074D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E136F-F905-4FF9-8E1A-8AE2FC59C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FEDD6-92C8-4D4A-B2DE-3CF06358F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7DC13-74F5-4CCE-A719-16F3E49FF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6F212-E74E-48A3-A70F-3CA4B2FFC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77977-AFFD-4990-8302-565375615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F8930-E79D-4DDF-871D-BE4276047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C9EF8-7BCE-4799-8BBA-197D77D06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E4EC5-6D0A-415C-B5E8-B3082FD9E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74B99-880D-4006-B949-29301D17D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6B8B2-DB91-4A51-8F1A-73F206347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4FE74-11B7-4D94-B889-02E1AEC31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0439A-0D76-4E7A-9F17-D930978CB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3DE16-BC05-45C2-AD41-65B479B0A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9F707-691C-4E6D-9F08-DA2EB0369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03699-F9B1-4DA6-B7A3-9DC560BF7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E6181-0618-4E88-9BAA-6416FD437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E21DB-1CA8-4D43-91F4-7C6705E68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AEB11-D39B-46C7-80AA-6BC4981E8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E4CD3-6A9D-49FC-A0BF-ED0A887E0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3F245-2BBC-415D-8D99-793D07BDD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5EF42-21FC-47B3-B201-5E8A6F27E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79A1F-5072-402A-9E7F-0F626384EA9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F4684-575F-4889-99BD-6B76672695A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В будничных радостях и горестях жизни нужно быть </a:t>
            </a:r>
            <a:r>
              <a:rPr b="1" i="1" lang="en-US" sz="3600" spc="-1" strike="noStrike">
                <a:solidFill>
                  <a:srgbClr val="ffff99"/>
                </a:solidFill>
                <a:latin typeface="Arial"/>
              </a:rPr>
              <a:t>сангвиником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, в важных событиях жизни - </a:t>
            </a:r>
            <a:r>
              <a:rPr b="1" i="1" lang="en-US" sz="3600" spc="-1" strike="noStrike">
                <a:solidFill>
                  <a:srgbClr val="ffff99"/>
                </a:solidFill>
                <a:latin typeface="Arial"/>
              </a:rPr>
              <a:t>меланхоликом</a:t>
            </a: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относительно влечений, глубоко затрагивающих наши интересы, - </a:t>
            </a:r>
            <a:r>
              <a:rPr b="1" i="1" lang="en-US" sz="3600" spc="-1" strike="noStrike">
                <a:solidFill>
                  <a:srgbClr val="ffff99"/>
                </a:solidFill>
                <a:latin typeface="Arial"/>
              </a:rPr>
              <a:t>холериком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, и, наконец, в исполнении решений - </a:t>
            </a:r>
            <a:r>
              <a:rPr b="1" i="1" lang="en-US" sz="3600" spc="-1" strike="noStrike">
                <a:solidFill>
                  <a:srgbClr val="ffff99"/>
                </a:solidFill>
                <a:latin typeface="Arial"/>
              </a:rPr>
              <a:t>флегматиком.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                                                  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В.Вунд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               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Цель урока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Определить профессии, соответствующие каждому типу темперамент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Тип темперамента и выбор профессии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395280" y="1628640"/>
          <a:ext cx="8339040" cy="4803840"/>
        </p:xfrm>
        <a:graphic>
          <a:graphicData uri="http://schemas.openxmlformats.org/drawingml/2006/table">
            <a:tbl>
              <a:tblPr/>
              <a:tblGrid>
                <a:gridCol w="2743200"/>
                <a:gridCol w="2451240"/>
                <a:gridCol w="3144600"/>
              </a:tblGrid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ип темперамент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рудовые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ействи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едпочитаемые професси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06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сангвиник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99ff99"/>
                        </a:buClr>
                        <a:buSzPct val="80000"/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меланхолик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флегматик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холерик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Цель урока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Определить профессии, соответствующие каждому типу темперамент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Успешность человека зависит не от его темперамента, а от способностей, знаний, навыков и направленности личности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6" name="" descr="Чистые темпераменты встречаются очень редко"/>
          <p:cNvPicPr/>
          <p:nvPr/>
        </p:nvPicPr>
        <p:blipFill>
          <a:blip r:embed="rId1"/>
          <a:stretch/>
        </p:blipFill>
        <p:spPr>
          <a:xfrm>
            <a:off x="3708360" y="3753000"/>
            <a:ext cx="3527640" cy="245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30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Спасибо за внимание!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Темперамент-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ачество биологическое, врожденное, а не приобретенное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Темперамент определяют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корос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ил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уравновешенность наших реакций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Типы темперамент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Экстраверты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ангвиник - </a:t>
            </a:r>
            <a:r>
              <a:rPr b="0" i="1" lang="en-US" sz="3200" spc="-1" strike="noStrike">
                <a:solidFill>
                  <a:srgbClr val="99ffcc"/>
                </a:solidFill>
                <a:latin typeface="Arial"/>
              </a:rPr>
              <a:t>«Доверяй, но проверяй»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Холерик - </a:t>
            </a:r>
            <a:r>
              <a:rPr b="0" i="1" lang="en-US" sz="3200" spc="-1" strike="noStrike">
                <a:solidFill>
                  <a:srgbClr val="99ffcc"/>
                </a:solidFill>
                <a:latin typeface="Arial"/>
              </a:rPr>
              <a:t>«Ни минуты покоя»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нтроверты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Меланхолик -</a:t>
            </a:r>
            <a:r>
              <a:rPr b="0" lang="en-US" sz="3200" spc="-1" strike="noStrike">
                <a:solidFill>
                  <a:srgbClr val="99ffcc"/>
                </a:solidFill>
                <a:latin typeface="Arial"/>
              </a:rPr>
              <a:t> «</a:t>
            </a:r>
            <a:r>
              <a:rPr b="0" i="1" lang="en-US" sz="3200" spc="-1" strike="noStrike">
                <a:solidFill>
                  <a:srgbClr val="99ffcc"/>
                </a:solidFill>
                <a:latin typeface="Arial"/>
              </a:rPr>
              <a:t>Не навреди»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Флегматик - </a:t>
            </a:r>
            <a:r>
              <a:rPr b="0" i="1" lang="en-US" sz="3200" spc="-1" strike="noStrike">
                <a:solidFill>
                  <a:srgbClr val="99ffcc"/>
                </a:solidFill>
                <a:latin typeface="Arial"/>
              </a:rPr>
              <a:t>«Не торопи»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Флегматик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468360" y="1341360"/>
            <a:ext cx="2500200" cy="324000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3203640" y="1197000"/>
            <a:ext cx="396072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уравновешенны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терпеливы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адёжны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медлительны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думчивы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9" name="" descr="Флегматик"/>
          <p:cNvPicPr/>
          <p:nvPr/>
        </p:nvPicPr>
        <p:blipFill>
          <a:blip r:embed="rId2"/>
          <a:stretch/>
        </p:blipFill>
        <p:spPr>
          <a:xfrm>
            <a:off x="6372360" y="2708280"/>
            <a:ext cx="2490480" cy="330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Сангвиник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468360" y="549360"/>
            <a:ext cx="2114640" cy="27367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148360" y="1268280"/>
            <a:ext cx="374328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жизнерадостны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бщительны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Увлеченны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тзывчивы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3" name="" descr="Сангвиник"/>
          <p:cNvPicPr/>
          <p:nvPr/>
        </p:nvPicPr>
        <p:blipFill>
          <a:blip r:embed="rId2"/>
          <a:stretch/>
        </p:blipFill>
        <p:spPr>
          <a:xfrm>
            <a:off x="2268360" y="2852640"/>
            <a:ext cx="2867040" cy="34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Холерик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5076720" y="1413000"/>
            <a:ext cx="2797200" cy="338292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Холерик"/>
          <p:cNvPicPr/>
          <p:nvPr/>
        </p:nvPicPr>
        <p:blipFill>
          <a:blip r:embed="rId2"/>
          <a:stretch/>
        </p:blipFill>
        <p:spPr>
          <a:xfrm>
            <a:off x="1476360" y="1413000"/>
            <a:ext cx="2695680" cy="33829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2195640" y="5589720"/>
            <a:ext cx="532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908000" y="4869000"/>
            <a:ext cx="5832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энергичный                 - вспыльчивы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подвижный                 - нетерпеливы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увлеченный                - агрессивны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Меланхолик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0" name="" descr="Меланхолик"/>
          <p:cNvPicPr/>
          <p:nvPr/>
        </p:nvPicPr>
        <p:blipFill>
          <a:blip r:embed="rId1"/>
          <a:stretch/>
        </p:blipFill>
        <p:spPr>
          <a:xfrm>
            <a:off x="684360" y="1916280"/>
            <a:ext cx="3174840" cy="386064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5364000" y="1916280"/>
            <a:ext cx="3311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03640" y="1773360"/>
            <a:ext cx="3529080" cy="40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чувствительны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мягки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пособный к         сочувствию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ранимы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застенчивы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ТЕМПЕРАМЕНТ</a:t>
            </a:r>
            <a:br>
              <a:rPr sz="3200"/>
            </a:b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ВЫДАЮЩИХСЯ ЛИЧНОСТЕЙ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68360" y="2133360"/>
            <a:ext cx="8229600" cy="40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ангвиник – Наполео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Холерик –Петр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, Пушкин, Сувор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еланхолик –Лермонтов, Блок, Гогол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Флегматик – Кутузов, Крылов, Ньюто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40464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1332000" y="2133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11280" y="1628640"/>
            <a:ext cx="7343640" cy="165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80"/>
                  </a:solidFill>
                  <a:miter/>
                </a:ln>
                <a:solidFill>
                  <a:srgbClr val="ffff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Темперамент </a:t>
            </a:r>
            <a:endParaRPr b="0" lang="en-US" sz="1800" spc="1" strike="noStrike">
              <a:ln w="12600">
                <a:solidFill>
                  <a:srgbClr val="000080"/>
                </a:solidFill>
                <a:miter/>
              </a:ln>
              <a:solidFill>
                <a:srgbClr val="ffff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80"/>
                  </a:solidFill>
                  <a:miter/>
                </a:ln>
                <a:solidFill>
                  <a:srgbClr val="ffff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и выбор профессии</a:t>
            </a:r>
            <a:endParaRPr b="0" lang="en-US" sz="1800" spc="1" strike="noStrike">
              <a:ln w="12600">
                <a:solidFill>
                  <a:srgbClr val="000080"/>
                </a:solidFill>
                <a:miter/>
              </a:ln>
              <a:solidFill>
                <a:srgbClr val="ffff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38" name="" descr="Темпераментом называют врожденные особенности человека, которые определяют динамику протекания его психических процессов"/>
          <p:cNvPicPr/>
          <p:nvPr/>
        </p:nvPicPr>
        <p:blipFill>
          <a:blip r:embed="rId1"/>
          <a:stretch/>
        </p:blipFill>
        <p:spPr>
          <a:xfrm>
            <a:off x="2916360" y="4437000"/>
            <a:ext cx="3166920" cy="221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4T14:38:43Z</dcterms:created>
  <dc:creator>Admin</dc:creator>
  <dc:description/>
  <dc:language>en-US</dc:language>
  <cp:lastModifiedBy>User</cp:lastModifiedBy>
  <dcterms:modified xsi:type="dcterms:W3CDTF">2008-10-14T13:45:20Z</dcterms:modified>
  <cp:revision>13</cp:revision>
  <dc:subject/>
  <dc:title>Слайд 1</dc:title>
</cp:coreProperties>
</file>